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BDB9-ECC5-4DCE-9BE5-7B7542CE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5C8E1-1A70-4543-B377-36DC75FE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2D77F-1325-43CD-B9D4-9EA71842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919C-85D0-4236-833A-0D3496E4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9C6D-A9F5-40B7-800E-9791A3EE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66BE-FBC1-4834-8FDA-8A64F4C4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03C3-2A52-421F-BED8-3F890D60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2352-E643-464A-B4AE-29023EC0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4B10-4D26-4D63-9382-17935B61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8F4C-0905-4628-8B3A-2E69AABA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4005-1342-4C03-8D5B-498D70F1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7AE1-6CA7-4119-82BB-0A66B276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5CA7-2F75-4B0F-A966-29C8A147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35EC-FD66-437D-BE47-D78C3BB8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FF99-54E4-44CB-B1C0-F6C6B0A1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3BDA-C782-4033-8FB4-27F3B163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A2C8-C23B-4436-B97D-5F152D82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B5428-3DB0-4686-9089-0FD699DD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1651-AB8D-4332-8E20-E73EC2D5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98748-16A4-488F-8A2D-6871FBD5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EF4C7-0A94-45EA-800E-EF1EB292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EEA7E-C39B-4BFF-9125-6815C489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507FC-2A3B-4F17-82B4-A29071A3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9D1D-D64B-4B38-B659-CB25B60F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13B8-2738-4D1A-8397-57CFB6C695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7E47-4662-4EE3-8324-7BFF70CC37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ВЛИЯНИЕ НАРКОТИКОВ НА ЗДОРОВЬЕ ЧЕЛОВЕКА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626920" y="4292640"/>
            <a:ext cx="626580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Патракеева Татьяна 11а класс город Сыктывкар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Вывод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отребление наркотиков опасно для жизни челове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!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ркоманы – это угроза не только для близких людей, но и для всего социального общества. Наркотики – это фальшивое представление о счастье. Наркотики разрушают семьи. Наркотики препятствуют творческому и духовному развит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ef6"/>
                </a:solidFill>
                <a:latin typeface="Arial"/>
              </a:rPr>
              <a:t>Список литературы: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Цель: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dfdef6"/>
                </a:solidFill>
                <a:latin typeface="Arial"/>
              </a:rPr>
              <a:t>Исследовать какой вред наносит употребление наркотиков физическому здоровью человек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знать что такое нарко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ить какие виды наркотиков существую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яснить негативное влияние наркотиков на нервную систему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Что такое наркотики?</a:t>
            </a:r>
            <a:br>
              <a:rPr sz="2000"/>
            </a:b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Наркотик - это любое химическое соединение, которое воздействует на функционирование организма. Злоупотребление наркотиками - это их употребление любым неприемлемым с медицинской и социальной точек зрения образом или приемлемым, но неправильным. </a:t>
            </a:r>
            <a:br>
              <a:rPr sz="1800"/>
            </a:b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 наркотики независимо от пути введения в организм в большей или меньшей степени обязательно повреждаю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914400" y="249228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ервную систему (в том числе головной мозг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ммунную систему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чень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ердц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егк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0" y="4869000"/>
            <a:ext cx="844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835280" y="112536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можно разделить на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539640" y="1700280"/>
            <a:ext cx="165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332000" y="1773360"/>
            <a:ext cx="107928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843280" y="1773360"/>
            <a:ext cx="71280" cy="129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564000" y="1700280"/>
            <a:ext cx="43344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1844640"/>
            <a:ext cx="71928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651640" y="1700280"/>
            <a:ext cx="79200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877080" y="1557360"/>
            <a:ext cx="1008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2349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ири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08000" y="3500280"/>
            <a:ext cx="15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пресс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763640" y="3068640"/>
            <a:ext cx="17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соци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93080" y="2852640"/>
            <a:ext cx="1163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иои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651640" y="3141720"/>
            <a:ext cx="11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27640" y="321300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сиходел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653080" y="285264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сихостимуля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312320" y="2421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мпатог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Виды наркотиков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каин              Экстази      Геро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1542960" cy="21621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2268360" y="2276640"/>
            <a:ext cx="1447920" cy="21999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4140360" y="2349360"/>
            <a:ext cx="2076120" cy="19242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4"/>
          <a:stretch/>
        </p:blipFill>
        <p:spPr>
          <a:xfrm>
            <a:off x="6516720" y="2276640"/>
            <a:ext cx="1295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другие вещества, потребление которых легко вызывает у людей болезненное привыкание (кокаин, алкоголь, опиаты, амфетамин и др.), влияют на деятельность мозговой системы вознаграждения. Стимуляция этой системы порождает чувство удовлетворения и заставляет человека повторять те формы поведения, которые способствовали его достижени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fdef6"/>
                </a:solidFill>
                <a:latin typeface="Arial"/>
              </a:rPr>
              <a:t>СКАНОГРАММЫ МОЗГОВЫХ СТРУКТУР НАРКОМАНА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Прилежащее ядро                                                                                                                      - Миндалина                                                                                                                                        - Сублентикулярная часть миндал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Вентральная область покрыш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Префронтальная к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0581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ef6"/>
                </a:solidFill>
                <a:latin typeface="Arial"/>
              </a:rPr>
              <a:t>Микрофотографии прилежащего ядра животных, находящихся под воздействием ненаркотических веществ: дендриты с обычным количеством шипиков – выростов, улавливающих нервные сигналы (</a:t>
            </a:r>
            <a:r>
              <a:rPr b="1" i="1" lang="ru-RU" sz="1600" spc="-1" strike="noStrike">
                <a:solidFill>
                  <a:srgbClr val="dfdef6"/>
                </a:solidFill>
                <a:latin typeface="Arial"/>
              </a:rPr>
              <a:t>слева и в центре</a:t>
            </a:r>
            <a:r>
              <a:rPr b="1" lang="ru-RU" sz="1600" spc="-1" strike="noStrike">
                <a:solidFill>
                  <a:srgbClr val="dfdef6"/>
                </a:solidFill>
                <a:latin typeface="Arial"/>
              </a:rPr>
              <a:t>).</a:t>
            </a:r>
            <a:br>
              <a:rPr sz="1600"/>
            </a:br>
            <a:r>
              <a:rPr b="1" lang="ru-RU" sz="1600" spc="-1" strike="noStrike">
                <a:solidFill>
                  <a:srgbClr val="dfdef6"/>
                </a:solidFill>
                <a:latin typeface="Arial"/>
              </a:rPr>
              <a:t>У животных, пристрастившихся к кокаину, шипиков на дендритах гораздо больше (</a:t>
            </a:r>
            <a:r>
              <a:rPr b="1" i="1" lang="ru-RU" sz="1600" spc="-1" strike="noStrike">
                <a:solidFill>
                  <a:srgbClr val="dfdef6"/>
                </a:solidFill>
                <a:latin typeface="Arial"/>
              </a:rPr>
              <a:t>справа</a:t>
            </a:r>
            <a:r>
              <a:rPr b="1" lang="ru-RU" sz="1600" spc="-1" strike="noStrike">
                <a:solidFill>
                  <a:srgbClr val="dfdef6"/>
                </a:solidFill>
                <a:latin typeface="Arial"/>
              </a:rPr>
              <a:t>).</a:t>
            </a:r>
            <a:br>
              <a:rPr sz="1600"/>
            </a:br>
            <a:endParaRPr b="0" lang="en-US" sz="1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96400" y="2422440"/>
            <a:ext cx="77281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6193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15:28:26Z</dcterms:created>
  <dc:creator>User</dc:creator>
  <dc:description/>
  <dc:language>en-US</dc:language>
  <cp:lastModifiedBy>User</cp:lastModifiedBy>
  <dcterms:modified xsi:type="dcterms:W3CDTF">2009-11-10T14:37:58Z</dcterms:modified>
  <cp:revision>7</cp:revision>
  <dc:subject/>
  <dc:title>ВЛИЯНИЕ НАРКОТИКОВ НА ЗДОРОВЬЕ ЧЕЛОВЕКА</dc:title>
</cp:coreProperties>
</file>